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AB3-A3F3-4055-BDB8-EC38A03F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F9D-CAF9-4C55-9CB1-80DC2471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77A-B8FF-4CE2-84AF-4FC134FC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1E1-02C1-4719-8DD5-5317A6BD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381-044F-47FC-B832-A1CA0E0A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E36-E1D7-4BE1-B75E-99B92DF8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550-8F56-482F-9FE4-83993EE2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391-C0DF-49F4-BBA4-362E0BFE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FCF-4402-4902-B674-120435E4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EBD-41A1-4DDA-AD50-E7C9C7EC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70E-22C3-400E-A7D7-337126EF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C0E-DBE2-4ECE-89E3-1C9EBAEF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2F8A-BCF6-4103-A715-30D8B970C6C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Hydrolog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iver Reg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river regime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is the difference in the discharge of the river throughout the yea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information can easily be shown on a graph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During the year in Britain, it would be expected that the discharge of most rivers would be greater in winter months than in the summe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iver regimes will also reflect the area that they are i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gime of an Alpine stream, has a minimal discharge compared to that of a British stream during the wint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because most of the precipitation in the Alps during the winter falls as sn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spring months, when the snow melted, the discharge of the Alpine river shows an incredible increase, which often leads to flooding probl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ntrast a British river will slowly reduces its discharge throughout the drier summer months, until the autu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ooding occurs due to a sudden increase in the amount of water travelling down a river, and can occur for a number of reas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apid snow m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longed period of heavy 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udden and intense fall of 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interventions, such as deforestation, which cause the water to run-off faster than previous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/Storm Hydr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discharge of a river is shown on a graph called a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lood or storm hydrograph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shows the rainfall amount and then the discharge of the riv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of the rain falls onto the land rather than directly into the riv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water then will make its way into the river and you can use a hydrograph to see how quickly this oc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y looking at the peak rainfall and comparing it with the peak discharge you can work out the lag-time (the time between the two peak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/Storm Hydr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catchment areas will have different flood hydrograph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, with steep slopes and little vegetation, will rise very quickly, and can be described a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flashy river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the most likely to fl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drainage basins with shallower slopes, and greater vegetation cover will infiltrate the water more, and release it at a slower rate into the riv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ns there is less chance of flooding occur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/Storm Hydro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bbc.co.uk/scotland/education/int/geog/rivers/images/hydrographs/hydro1.gif"/>
          <p:cNvPicPr/>
          <p:nvPr/>
        </p:nvPicPr>
        <p:blipFill>
          <a:blip r:embed="rId1"/>
          <a:stretch/>
        </p:blipFill>
        <p:spPr>
          <a:xfrm>
            <a:off x="2050920" y="1515960"/>
            <a:ext cx="4969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2:56:51Z</dcterms:created>
  <dc:creator>Dell_02</dc:creator>
  <dc:description/>
  <dc:language>en-US</dc:language>
  <cp:lastModifiedBy>Dell_02</cp:lastModifiedBy>
  <dcterms:modified xsi:type="dcterms:W3CDTF">2011-01-26T23:09:30Z</dcterms:modified>
  <cp:revision>2</cp:revision>
  <dc:subject/>
  <dc:title>Hydrology</dc:title>
</cp:coreProperties>
</file>